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2E14-8050-4A4B-9170-8626E8B70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28C2-494D-4760-B22D-7B74B09A0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186D-B675-4B9B-BE2C-D55EDAA14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C9F5-8508-408D-94C6-A3CABC572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B25D6-9035-4E06-9D78-0FE0D7C10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C67AD-632A-4D44-AF60-5BC56BC0E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94198-227D-43D7-BF51-15BA4562B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DCE2D-2593-48A4-B954-35470AFE4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2A3EA-11E9-4482-8516-3DB19943B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0F4E6-3214-4CA2-ACFD-9618E4A71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1D484-3AAF-4453-9AAA-174097DF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34C0-1F19-4DF3-B95A-2D35ADEB8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F4329-517A-4983-A350-686BE3F2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791F1-421B-44C3-9E6F-4D53D8B2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41C44-D8D4-4581-97F8-A4338F9E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D890A-4B51-4494-8F58-C235FC001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E4A42-3DD9-4268-8C38-7EDB1AED9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AAEE-18A9-4D02-ABA4-F546486AA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46C5-47E0-4BC6-8257-7068DA647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F65D-0348-4C34-B5B1-581ED3A07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687C-8296-4BA2-B0C9-20C2967C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4783-5706-46ED-8F55-6B1BD341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1381-7DBA-47CE-8218-0B9831E6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FBFE-7120-4ECF-9033-61698494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4FED2-C112-4131-A15D-39EEAE2D4A49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471BE-7B56-484F-92B5-29C7466CB3B7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1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1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1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1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1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1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1.wmf"/><Relationship Id="rId2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409720"/>
            <a:ext cx="777240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Impact"/>
              </a:rPr>
              <a:t>الـمــرأة القيـــاديـة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6629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تفهم حاجات النساء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239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فويض وإعطاء الصلاحيات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بعد تفويض بلقيس قالوا : والأمر إليك فانظري ماذا تأمرين ؟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بعد النظر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 لأنها أكثر جمعا للمعلومات)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رب ابن لي عندك بيتا في الجنة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170320" y="0"/>
            <a:ext cx="397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 الحوار والاتصال والتعبير عن المشاعر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قد سمع الله قول التي تجادلك في زوجها وتشتكي إلى الله والله يسمع تحاوركما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سرعة والعمق في بناء العلاقات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86200" y="3048120"/>
            <a:ext cx="52578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قارنة القيادية بين الرجل و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اجع للمقارن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Nature of Managerial work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Henry Mentzberg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Female Advantage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Sally Helgusem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عمل بدرجات متفاوتة من الجهد ولكن بدون انقطاع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بدرجة واحدة من الجهد ولكنها تأخذ فترات راحة قصيرة ومتتابع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تربكه المقاطعات والزيارات أثناء العمل وتؤثر على إنتاجيته وأدائه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تبر الزيارات والمقاطعات فرصة لبناء العلاقات وتفهم احتياجات الأتباع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عمل بشكل كبير ولا يتخلل ذلك أمور أخرى في الغالب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خصص وقتا للأمور الأخرى ومن أهمها متابعة أمور الأس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993300"/>
                </a:solidFill>
                <a:latin typeface="Impact"/>
              </a:rPr>
              <a:t>كرم الإسلام المرأة وأنصفها وأعاد إليها حقوقها</a:t>
            </a:r>
            <a:r>
              <a:rPr b="0" lang="en-US" sz="6000" spc="-1" strike="noStrike">
                <a:solidFill>
                  <a:srgbClr val="993300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تابع أداء المهمة تلو المهمة دون تركيز كبير على تقييم الأداء أو النظر المستقبل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قيم كل عمل وتحرص على دراسة الآثار المستقبلية والآثار العامة على الأسرة والبيئة والتعليم وغير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رتبط بعمله بشكل عميق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رتبط بعملها ولكنها ترتبط بأمور كثيرة أخرى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ب الاحتفاظ بالمعلومات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حب تبادل المعلوم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تسلسل التنظيم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من خلال شبكة علاقات وليس التسلس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رجل عن المرأة القيادية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الانطباعات ليست عند جميع الرجال ولكنها شائعة وعلى النساء تصحيحه أو التعامل معها بحكم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صلح للقيادة الوسطى لا العلي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ستطيع قيادة النساء فقط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لا يخضعن إلا للرج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0"/>
          <a:ext cx="9144000" cy="7086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Impact"/>
              </a:rPr>
              <a:t>أول من أسلم امرأة وأول من استشهد امرأ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غير حاسمة عند اتخاذ القرا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عاطفية في قرارات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مل بجد ولا تصبر على العمل لساعات طويل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ستمر في نفس العمل بل ستتركه بعد حين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حزم الكافي للتعامل مع أصحاب المشاك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مزاجية فقد تكون سلبية أو تصبح هجومية دون أسباب وجيه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لغة الأرقام والحسابات والأمو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ثقة الكافية في النفس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الألعاب السياسية اللازمة لإدارة العم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كيف تدير الرجال ؟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Impact"/>
              </a:rPr>
              <a:t>النساء المؤمنات الخالدات نماذج قيادية على مر الزمان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( وخاصة فوق الخمسين ) يشعر بالذل حين ترأسه ا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مفاوضات فهي تكشف موقفها بسرعة وترضى بسرعة ولينة في مواقف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مشاغل المرأة العائلية تمنعها من أداء الأعمال المه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019920" y="2514600"/>
            <a:ext cx="2595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مرأة عن المرأة القيادي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أيضا تختلف من امرأة لأخرى وخاصة تجاه رئيستها في العمل ولذا من المهم التعامل مع هذه الانطباعات بحك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راعي ظروف المرأة التي ت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فهم المشاكل التي تمر بها المرأة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مارس التحفيز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شرح ما تريد والأهداف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محاولة لفهم القدرات والخصائص القيادية لدى ا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قضي مع العاملين معها وقتا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نتبه للأداء الحسن والأداء السيئ بينما الرجل لا ينتبه إلا للسيئ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عامل من حولها كبشر بينما الرجل يعاملهم كآل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غير متمكنة من عملها ك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متقلبة المزاج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لم كثيرا ولكنها تغتاب وغير صريحة مع من ي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خشى على منصبها كثيرا ولذلك لا تساعد أية امرأة ممكن أن تهدد منصب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عاطفية فإذا أحبت رفعت وإذا كرهت فجرت في الخصو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بر على النساء العاملات معها عندما تصل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صفات القيادية التي تميز 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عن وضع النساء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للأسف الإحصاءات أمريكية حيث لا توجد إحصاءات كافية في العالم العربي وهي تختلف كثيرا من بلد لآخ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0.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أكبر ألف شركة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البنوك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دور النشر الكبرى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9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شركات الأغذ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وسطى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عليا لجميع الشركات الأمريك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فوق النساء على الرجال في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راتب الرجل بنفس الشهادة والكفاء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خلال الاجتماعات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(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تي تضم رجالا و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مشاركة والاستشارة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قالت يا أيها الملأ أفتوني في أمري ما كنت قاطعة أمرا حتى تشهدون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قاطعات قام بها الرجال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بينما كانت مقاطعة الرجال في اجتماع رجالي أقل من هذه النسبة )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ومقاطعات النساء في اجتماع نسائي أقل من هذه النسبة )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إلى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كان المتكلم رجل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الحاضرات توهمن أن النساء تكلمن أكثر من الرجا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أخرى هامة ل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عند تقييم مقال وزع على عدد كبير من الناس كان التقييم كالتالي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: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أعطوا المقال درجة عالية عندما كتب عليه اسم 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فقط أعطوا نفس المقال درجة عالية عندما كتب عليه اسم امرأ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يتخذن القرارات في معظم القضايا العائلية بل حتى غيره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أثاث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حديد مكان السف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عاطف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447920" y="762120"/>
          <a:ext cx="5486400" cy="3408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762120"/>
                    <a:ext cx="5486400" cy="34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نز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احتياجات الالكترون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نوع السيا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لقرارات الصح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ساهمة المرأة العاملة في ميزانية البي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مستعملي الانترنت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وفي ازدياد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ستعملين الجدد للانترن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درسة الخاصة للأولاد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يحضرن الدورات والدروس في المعاهد الخاص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فالقوة الاقتصادية للمرأة عالية جدا ومع ذلك معظم المؤسسات التجارية لا تنتبه لذلك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71600" y="2895480"/>
            <a:ext cx="41911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جدول الصفات الشخصية لدى الرجال والنساء القياديين حسب انطباع العاملين لديهم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41008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رجو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مشترك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نسائ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676520" y="762120"/>
          <a:ext cx="5562360" cy="76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762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1676520" y="2133720"/>
          <a:ext cx="5562360" cy="761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1337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676520" y="4191120"/>
          <a:ext cx="5562360" cy="761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191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676520" y="3505320"/>
          <a:ext cx="5562360" cy="761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35053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1676520" y="2819520"/>
          <a:ext cx="5562360" cy="761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6520" y="28195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1676520" y="1447920"/>
          <a:ext cx="5562360" cy="761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76520" y="14479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5410080" y="7621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ز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فه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أدب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576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بداع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قلا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حم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35053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سيطر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ركز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576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ماس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88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سلا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16002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ساس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لتزا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28800" y="22096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عاطف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1008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نافس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خلا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1008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حليل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838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كيف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28800" y="914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ق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676520" y="4876920"/>
          <a:ext cx="5562360" cy="6094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76520" y="4876920"/>
                    <a:ext cx="5562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1676520" y="5445000"/>
          <a:ext cx="5557680" cy="57492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76520" y="5445000"/>
                    <a:ext cx="555768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541008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شد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0080" y="5410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هجوم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ذمر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576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كفاء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660066"/>
                </a:solidFill>
                <a:latin typeface="Times New Roman"/>
              </a:rPr>
              <a:t>الاعتماد على الآخرين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فاع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671480" y="5999040"/>
          <a:ext cx="5558040" cy="57492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71480" y="5999040"/>
                    <a:ext cx="555804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54100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طق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ه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524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زا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670040" y="209520"/>
          <a:ext cx="5557680" cy="57456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670040" y="209520"/>
                    <a:ext cx="555768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كل هذه المعلومات تعطي بوضوح الدلائل على قدرات المرأة القياد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طلوب تفعيل دورها القيادي مع الالتزام الشرعي لتعيد مجد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00ff"/>
                </a:solidFill>
                <a:latin typeface="Impact"/>
              </a:rPr>
              <a:t>النساء الخالدات</a:t>
            </a: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05:24:49Z</dcterms:created>
  <dc:creator>user</dc:creator>
  <dc:description/>
  <dc:language>en-US</dc:language>
  <cp:lastModifiedBy>win</cp:lastModifiedBy>
  <dcterms:modified xsi:type="dcterms:W3CDTF">2002-03-23T12:05:53Z</dcterms:modified>
  <cp:revision>20</cp:revision>
  <dc:subject/>
  <dc:title>المرأة القيادية</dc:title>
</cp:coreProperties>
</file>